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1581-9749-43FD-9925-AF2A53F14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F4D5-4DFD-4AC6-930B-AC227178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9A77-152E-4B80-B34B-A56A5749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9CD1-0258-41A1-BE7F-90BD2357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C2E2-6D83-4347-8085-4D345A14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2783-7259-482E-B689-C4674866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36FA-042F-43AF-937C-603DB6E1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5694-425C-4780-8136-1F3C0605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7A79-8DA8-471C-B664-48BC1CB5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B0DA-284A-4488-97A2-15AC59A6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E1BA-64A1-4E8D-9EF4-12F05E5F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1F9D-1E20-481B-8B55-E07978EC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07E5-EC7B-4113-A297-FECFF64E5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9880" y="2666880"/>
            <a:ext cx="1981440" cy="1524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uper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ystem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048120"/>
            <a:ext cx="1981440" cy="9903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934320" y="5562720"/>
            <a:ext cx="1981080" cy="9903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05720" y="228600"/>
            <a:ext cx="1981080" cy="9907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37160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24382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91120" y="2438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52480" y="205740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 Product Purc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3505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534520" y="35053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320040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s Cust/Mgmt Requ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7620120" y="43430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4038480"/>
            <a:ext cx="266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Cust/Mgmt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434340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447920" y="403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43434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s Product/Rece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23623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772400" y="12189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1600200"/>
            <a:ext cx="213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 Report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5562720"/>
            <a:ext cx="1981080" cy="9903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Ven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334120" y="40381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4800600"/>
            <a:ext cx="129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gmt Requests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541008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 is Retur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29200" y="762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7621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304920"/>
            <a:ext cx="312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 Directives/Request 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638680" y="43434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6386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580920" y="61722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4191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580920" y="5791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57200"/>
            <a:ext cx="1981080" cy="9907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419720" y="1828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219320" y="18288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2193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15238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11430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11430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762120"/>
            <a:ext cx="19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s Retur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57200" y="1981080"/>
            <a:ext cx="1447920" cy="457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81280" y="4114800"/>
            <a:ext cx="1447920" cy="457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838080"/>
            <a:ext cx="1447920" cy="463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tary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57400" y="19051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ts Pa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05120" y="22096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52680" y="609480"/>
            <a:ext cx="1752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igure 2.4 Monetary Exchange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9320" y="1295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81280" y="1974960"/>
            <a:ext cx="1447920" cy="463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ment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3200400"/>
            <a:ext cx="1447560" cy="463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3200400"/>
            <a:ext cx="1447920" cy="463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/Debit C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86400" y="3200400"/>
            <a:ext cx="1447920" cy="463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2743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17220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343400" y="2438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438280" y="27432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4340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38280" y="3657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438280" y="4343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72200" y="3657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5028840" y="4343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5410080"/>
            <a:ext cx="1447920" cy="463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s Rece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43400" y="4572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2720" y="5410080"/>
            <a:ext cx="1447560" cy="463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.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8120" y="56386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71800" y="25146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er Selects Payment Meth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48520" y="397836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yment Rendered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39625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yment Rendered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76720" y="36576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yment Rendered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95280" y="14479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ceeds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343400" y="49528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ceeds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477120" y="990720"/>
            <a:ext cx="1447560" cy="463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.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81480" y="99072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ceeds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876920" y="1219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238880" y="1447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400800" y="2438280"/>
            <a:ext cx="1523880" cy="304920"/>
          </a:xfrm>
          <a:prstGeom prst="flowChartPredefinedProcess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ntory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78168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77120" y="3498840"/>
            <a:ext cx="1447560" cy="463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. Item Adjus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238880" y="17524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pdat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91320" y="29718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jus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534520" y="25909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5028840" y="457200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600200" y="15228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igure 2.5 Print Receipt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095880" y="43434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ts Repor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324480" y="152280"/>
            <a:ext cx="1752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igure 2.6 Print Inventory Update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429000" y="990720"/>
            <a:ext cx="1447920" cy="463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s Rece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" y="1752480"/>
            <a:ext cx="1447920" cy="457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1905120" y="19810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219320" y="23623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Change / Produc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81280" y="4343400"/>
            <a:ext cx="1447920" cy="463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s Daily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191120"/>
            <a:ext cx="1447920" cy="463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it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7200" y="2971800"/>
            <a:ext cx="1447920" cy="463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 Pac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143000" y="2209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0" y="17524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pt Returned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143000" y="36576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ceeds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143000" y="3429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0880" y="990720"/>
            <a:ext cx="1447920" cy="457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05120" y="9907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nerates Recei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828800" y="1219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114800" y="1447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924680" y="2590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7467480" y="2742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467480" y="297180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port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600200" y="15228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igure 2.7 Prints Daily Report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477120" y="990720"/>
            <a:ext cx="1447560" cy="463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ing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952880" y="99072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pdates/Receive Accounting Inf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934320" y="1447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400800" y="2438280"/>
            <a:ext cx="1523880" cy="304920"/>
          </a:xfrm>
          <a:prstGeom prst="flowChartPredefinedProcess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ing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2743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477120" y="3498840"/>
            <a:ext cx="1447560" cy="463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ing Ad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248520" y="17524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pdat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43600" y="289548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ts Adjus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1828440" y="22860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28195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quests New Produc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29000" y="2057400"/>
            <a:ext cx="1447920" cy="463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s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0880" y="990720"/>
            <a:ext cx="1447920" cy="463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s Daily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429000" y="990720"/>
            <a:ext cx="1447920" cy="457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05120" y="9907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Re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28800" y="1219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7467480" y="2742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467480" y="281952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s Adjustment Inf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8" name=""/>
          <p:cNvCxnSpPr>
            <a:stCxn id="383" idx="3"/>
            <a:endCxn id="371" idx="2"/>
          </p:cNvCxnSpPr>
          <p:nvPr/>
        </p:nvCxnSpPr>
        <p:spPr>
          <a:xfrm>
            <a:off x="4876560" y="1219320"/>
            <a:ext cx="16009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89" name=""/>
          <p:cNvSpPr/>
          <p:nvPr/>
        </p:nvSpPr>
        <p:spPr>
          <a:xfrm flipV="1">
            <a:off x="7467480" y="14475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467480" y="152388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ts Adjustment Inf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91120" y="1447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124080" y="16002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ceeds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2057400"/>
            <a:ext cx="1447920" cy="463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ives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057400" y="20574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ceeds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05320" y="3505320"/>
            <a:ext cx="1447560" cy="463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Inv.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19112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248520" y="15228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igure 2.9 Accounting Update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5029200" y="1676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81080" y="146376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ts Reques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553080" y="2743200"/>
            <a:ext cx="1447920" cy="463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pping Pr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553080" y="3962520"/>
            <a:ext cx="1447920" cy="463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pp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3520" y="1447920"/>
            <a:ext cx="1447560" cy="457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38880" y="34290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nerates Invo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981080" y="1676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238880" y="3200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57800" y="14637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roduct 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3962520"/>
            <a:ext cx="1447920" cy="463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 Deli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315200" y="22096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ceeds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1441440"/>
            <a:ext cx="1447920" cy="463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Inv.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238880" y="1905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81280" y="380880"/>
            <a:ext cx="1752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igure 2.8 Physical Inventory Update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477120" y="1447920"/>
            <a:ext cx="1447560" cy="457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Ven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5028840" y="41911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4120" y="3962520"/>
            <a:ext cx="121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ivers New Products and Invo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5029200" y="1676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581280" y="2286000"/>
            <a:ext cx="1447920" cy="463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ehouse Restoc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81280" y="3276720"/>
            <a:ext cx="1447920" cy="463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0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 Bar Co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477120" y="1447920"/>
            <a:ext cx="1447560" cy="457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752480" y="1676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343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257800" y="14637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roducts / Invo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81280" y="1447920"/>
            <a:ext cx="1447920" cy="463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 Deli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486400" y="22860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ceeds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81280" y="4419720"/>
            <a:ext cx="1447920" cy="463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 Genera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34340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81280" y="38088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igure 2.10  Product Delivery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4920" y="1447920"/>
            <a:ext cx="1447560" cy="457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Ven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5029200" y="25146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57400" y="144792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ivers New Products and Invo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238880" y="1905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343400" y="2895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ceeds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657600" y="5632560"/>
            <a:ext cx="1447920" cy="463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s Repor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343400" y="4876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343400" y="39625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ceeds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343400" y="51055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ceeds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5029200" y="1676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81280" y="2286000"/>
            <a:ext cx="1447920" cy="463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581280" y="3276720"/>
            <a:ext cx="1447920" cy="463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04920" y="1447920"/>
            <a:ext cx="1447560" cy="457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752480" y="1676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257800" y="14637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Re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6400" y="22860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ceeds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34340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22860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igure 2.11  Prints Re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477120" y="1447920"/>
            <a:ext cx="1447560" cy="457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5029200" y="25146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05740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ts Re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238880" y="1905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343400" y="2895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ceeds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81280" y="1447920"/>
            <a:ext cx="1447920" cy="463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s Repor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324480" y="3276720"/>
            <a:ext cx="1447920" cy="463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ing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781680" y="3733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24480" y="4724280"/>
            <a:ext cx="1524240" cy="304920"/>
          </a:xfrm>
          <a:prstGeom prst="flowChartPredefinedProcess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ing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781680" y="5029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324480" y="5784840"/>
            <a:ext cx="1447920" cy="463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ing Ad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19920" y="40384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pdat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7391520" y="5028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543800" y="5060880"/>
            <a:ext cx="106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s Adjustment Inf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7391520" y="37335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391520" y="3809880"/>
            <a:ext cx="106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ts Adjustment Inf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324480" y="22860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igure 2.12 Update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791320" y="510552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ts Adjus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029200" y="321624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pdates/Receive Accounting Inf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133720" y="32767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pdates/Receive Inventory Inf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3520" y="3276720"/>
            <a:ext cx="1447560" cy="463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ntory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981080" y="3505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029200" y="35053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33520" y="4724280"/>
            <a:ext cx="1523880" cy="304920"/>
          </a:xfrm>
          <a:prstGeom prst="flowChartPredefinedProcess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ntory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990720" y="3733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1523880" y="37335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5784840"/>
            <a:ext cx="1447920" cy="463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ntory Ad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90720" y="5029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1523880" y="5028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40384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pdat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523880" y="396252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ts Adjustment Inf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518148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ts Adjus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523880" y="510552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s Adjustment Inf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153280" y="1676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467480" y="2590920"/>
            <a:ext cx="1447920" cy="463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3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ncile Ac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924680" y="1676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153280" y="1905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ceeds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434340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781680" y="2590920"/>
            <a:ext cx="1447920" cy="457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Ven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752480" y="1676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343400" y="20574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ceeds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429000" y="3049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igure 2.13  Reconcile Accou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04920" y="1447920"/>
            <a:ext cx="1447560" cy="457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5740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ders Pa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81280" y="1447920"/>
            <a:ext cx="1447920" cy="463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3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ncile Accou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657600" y="2590920"/>
            <a:ext cx="1447920" cy="463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3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Transf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733920" y="3733920"/>
            <a:ext cx="1447560" cy="463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3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s Prof of Pay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28195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62720" y="259092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99072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990720" y="19047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76520" y="37339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s Recei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343400" y="32767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304920"/>
            <a:ext cx="1447920" cy="457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304920"/>
            <a:ext cx="1447920" cy="387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 Col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67480" y="3809880"/>
            <a:ext cx="1524240" cy="304920"/>
          </a:xfrm>
          <a:prstGeom prst="flowChartPredefinedProcess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ntory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952880" y="18288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001000" y="2286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685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952880" y="32004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52880" y="3049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sen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47242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5335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3049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 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7621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35053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 Sales Statistics and            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4648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3962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25146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2514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160020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s Product Price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40384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New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76920" y="114300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er Product Li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533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7621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tted Produ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13716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447920" y="1828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60958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36576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s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s  Payment of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84836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78168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2971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ts Rece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447920" y="7617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228600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s Pay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77120" y="4495680"/>
            <a:ext cx="1447560" cy="457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Ven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4876920"/>
            <a:ext cx="1524240" cy="304560"/>
          </a:xfrm>
          <a:prstGeom prst="flowChartPredefinedProcess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ing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143000"/>
            <a:ext cx="1447560" cy="457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304920"/>
            <a:ext cx="1447560" cy="457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3505320"/>
            <a:ext cx="1447920" cy="457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1143000"/>
            <a:ext cx="1295280" cy="387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out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57600" y="1676520"/>
            <a:ext cx="1295280" cy="387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3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ce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16002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s Product Price Li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57600" y="2286000"/>
            <a:ext cx="137160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4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tary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2286000"/>
            <a:ext cx="1447560" cy="457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2819520"/>
            <a:ext cx="1447920" cy="457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57600" y="2895480"/>
            <a:ext cx="1295280" cy="463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s Rece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28954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s Receipt and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676160" y="31240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3657600"/>
            <a:ext cx="144792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7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s Daily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105160" y="39625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676520" y="3733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40384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57600" y="4495680"/>
            <a:ext cx="144792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8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Inv.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21932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666880" y="4266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44197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s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57600" y="5334120"/>
            <a:ext cx="1295280" cy="387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 Deli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7238880" y="4952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952880" y="55627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53341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ivers Request &amp; In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676160" y="5562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4120"/>
            <a:ext cx="1447920" cy="457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53341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s Products &amp; In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5867280"/>
            <a:ext cx="1295280" cy="387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1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s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91440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586728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ts Product Statistics and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5867280"/>
            <a:ext cx="1447920" cy="457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60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60958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s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67480" y="5029200"/>
            <a:ext cx="1524240" cy="304920"/>
          </a:xfrm>
          <a:prstGeom prst="flowChartPredefinedProcess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ing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43800" y="61722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43800" y="6172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772400" y="2971800"/>
            <a:ext cx="1295280" cy="387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6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ntory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5820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4582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0120" y="5562720"/>
            <a:ext cx="1295280" cy="387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1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305920" y="5943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8305920" y="5333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3962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4343400"/>
            <a:ext cx="1600200" cy="380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9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ing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4724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91520" y="6400800"/>
            <a:ext cx="1523880" cy="304920"/>
          </a:xfrm>
          <a:prstGeom prst="flowChartPredefinedProcess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ntory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610480" y="5943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534520" y="60199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6248520"/>
            <a:ext cx="1447920" cy="457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Ven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6470640"/>
            <a:ext cx="1295280" cy="387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13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ncile Ac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1680" y="6324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952880" y="66294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437920" y="6629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438280" y="6476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1676520" y="6477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0" y="6583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 Ven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38280" y="63244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s Pay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28600" y="3581280"/>
            <a:ext cx="1981080" cy="3048120"/>
          </a:xfrm>
          <a:custGeom>
            <a:avLst/>
            <a:gdLst>
              <a:gd name="textAreaLeft" fmla="*/ 96480 w 1981080"/>
              <a:gd name="textAreaRight" fmla="*/ 1884600 w 1981080"/>
              <a:gd name="textAreaTop" fmla="*/ 96480 h 3048120"/>
              <a:gd name="textAreaBottom" fmla="*/ 2951640 h 3048120"/>
            </a:gdLst>
            <a:ahLst/>
            <a:rect l="textAreaLeft" t="textAreaTop" r="textAreaRight" b="textAreaBottom"/>
            <a:pathLst>
              <a:path w="21600" h="33232">
                <a:moveTo>
                  <a:pt x="3600" y="0"/>
                </a:moveTo>
                <a:arcTo wR="3600" hR="3600" stAng="16200000" swAng="-5400000"/>
                <a:lnTo>
                  <a:pt x="0" y="29632"/>
                </a:lnTo>
                <a:arcTo wR="3600" hR="3600" stAng="10800000" swAng="-5400000"/>
                <a:lnTo>
                  <a:pt x="18000" y="33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05720" y="228600"/>
            <a:ext cx="2133360" cy="2743200"/>
          </a:xfrm>
          <a:custGeom>
            <a:avLst/>
            <a:gdLst>
              <a:gd name="textAreaLeft" fmla="*/ 144360 w 2133360"/>
              <a:gd name="textAreaRight" fmla="*/ 1989000 w 2133360"/>
              <a:gd name="textAreaTop" fmla="*/ 144360 h 2743200"/>
              <a:gd name="textAreaBottom" fmla="*/ 2598840 h 2743200"/>
            </a:gdLst>
            <a:ahLst/>
            <a:rect l="textAreaLeft" t="textAreaTop" r="textAreaRight" b="textAreaBottom"/>
            <a:pathLst>
              <a:path w="21600" h="27774">
                <a:moveTo>
                  <a:pt x="4997" y="0"/>
                </a:moveTo>
                <a:arcTo wR="4997" hR="4997" stAng="16200000" swAng="-5400000"/>
                <a:lnTo>
                  <a:pt x="0" y="22777"/>
                </a:lnTo>
                <a:arcTo wR="4997" hR="4997" stAng="10800000" swAng="-5400000"/>
                <a:lnTo>
                  <a:pt x="16603" y="27774"/>
                </a:lnTo>
                <a:arcTo wR="4997" hR="4997" stAng="5400000" swAng="-5400000"/>
                <a:lnTo>
                  <a:pt x="21600" y="4997"/>
                </a:lnTo>
                <a:arcTo wR="4997" hR="4997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0" y="304920"/>
            <a:ext cx="198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duct  I.D. (PK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duct Na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duct Typ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o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erv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duct Unit Pri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duct Retail Pr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duct Unit of Meas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Weigh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Volu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3760920"/>
            <a:ext cx="17524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anager I.D. (PK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anager Na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r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a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idd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anager Addr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tre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t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Zip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anager Phone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rea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anager W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alary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762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3581280"/>
            <a:ext cx="2133720" cy="3048120"/>
          </a:xfrm>
          <a:custGeom>
            <a:avLst/>
            <a:gdLst>
              <a:gd name="textAreaLeft" fmla="*/ 144360 w 2133720"/>
              <a:gd name="textAreaRight" fmla="*/ 1989360 w 2133720"/>
              <a:gd name="textAreaTop" fmla="*/ 144360 h 3048120"/>
              <a:gd name="textAreaBottom" fmla="*/ 2903760 h 3048120"/>
            </a:gdLst>
            <a:ahLst/>
            <a:rect l="textAreaLeft" t="textAreaTop" r="textAreaRight" b="textAreaBottom"/>
            <a:pathLst>
              <a:path w="21600" h="30855">
                <a:moveTo>
                  <a:pt x="4997" y="0"/>
                </a:moveTo>
                <a:arcTo wR="4997" hR="4997" stAng="16200000" swAng="-5400000"/>
                <a:lnTo>
                  <a:pt x="0" y="25858"/>
                </a:lnTo>
                <a:arcTo wR="4997" hR="4997" stAng="10800000" swAng="-5400000"/>
                <a:lnTo>
                  <a:pt x="16603" y="30855"/>
                </a:lnTo>
                <a:arcTo wR="4997" hR="4997" stAng="5400000" swAng="-5400000"/>
                <a:lnTo>
                  <a:pt x="21600" y="4997"/>
                </a:lnTo>
                <a:arcTo wR="4997" hR="4997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733920"/>
            <a:ext cx="20574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Ven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Vendor I.D. (PK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Vendor Company Na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Vendor Addr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tre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t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Zip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hone Number (AK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rea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Vendor Bank Route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Vendor Payment Schedul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Week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nth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duct ID Number (FK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duct Unit Prices (FK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30492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228600"/>
            <a:ext cx="1981440" cy="2666880"/>
          </a:xfrm>
          <a:custGeom>
            <a:avLst/>
            <a:gdLst>
              <a:gd name="textAreaLeft" fmla="*/ 96480 w 1981440"/>
              <a:gd name="textAreaRight" fmla="*/ 1884960 w 1981440"/>
              <a:gd name="textAreaTop" fmla="*/ 96480 h 2666880"/>
              <a:gd name="textAreaBottom" fmla="*/ 2570400 h 2666880"/>
            </a:gdLst>
            <a:ahLst/>
            <a:rect l="textAreaLeft" t="textAreaTop" r="textAreaRight" b="textAreaBottom"/>
            <a:pathLst>
              <a:path w="21600" h="29071">
                <a:moveTo>
                  <a:pt x="3600" y="0"/>
                </a:moveTo>
                <a:arcTo wR="3600" hR="3600" stAng="16200000" swAng="-5400000"/>
                <a:lnTo>
                  <a:pt x="0" y="25471"/>
                </a:lnTo>
                <a:arcTo wR="3600" hR="3600" stAng="10800000" swAng="-5400000"/>
                <a:lnTo>
                  <a:pt x="18000" y="290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380880"/>
            <a:ext cx="17524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ustomer Balance D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ustomer Payment Typ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ash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heck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redit/Debit C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ustomer Card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Vi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aster C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th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1905120"/>
            <a:ext cx="2057400" cy="320040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3200400"/>
              <a:gd name="textAreaBottom" fmla="*/ 3099960 h 3200400"/>
            </a:gdLst>
            <a:ahLst/>
            <a:rect l="textAreaLeft" t="textAreaTop" r="textAreaRight" b="textAreaBottom"/>
            <a:pathLst>
              <a:path w="21600" h="33598">
                <a:moveTo>
                  <a:pt x="3600" y="0"/>
                </a:moveTo>
                <a:arcTo wR="3600" hR="3600" stAng="16200000" swAng="-5400000"/>
                <a:lnTo>
                  <a:pt x="0" y="29998"/>
                </a:lnTo>
                <a:arcTo wR="3600" hR="3600" stAng="10800000" swAng="-5400000"/>
                <a:lnTo>
                  <a:pt x="18000" y="33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1905120"/>
            <a:ext cx="198108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Employ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mployee I.D. (PK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mployee Na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r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a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idd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mployee Addr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tre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t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Zip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hone Number (AK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rea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mployee 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ull Tim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rt Ti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mployee W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alar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Hourl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mployee Drivers Licen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0" y="685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53080" y="762120"/>
            <a:ext cx="1526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553080" y="68580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685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59364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hooses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33720" y="1219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121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0" y="1143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14800" y="1752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99072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rders Products Fr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91120" y="137160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llects Payment Fr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09680" y="57913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343400" y="5105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38280" y="5715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67080" y="5257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38280" y="5562720"/>
            <a:ext cx="20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Hires/Gives Directives 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5181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ubmits Reports 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09680" y="60199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38280" y="5943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5867280"/>
            <a:ext cx="1447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ders Products From/Renders Payment 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553080" y="5943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6629400" y="59436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629400" y="601992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5867280"/>
            <a:ext cx="14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s In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44956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553080" y="4419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62720" y="4419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5333760" y="441936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333760" y="44956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43600" y="4114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elivers Product 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4120" y="4648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ceives Produ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4120" y="2362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286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553080" y="228600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553080" y="2362320"/>
            <a:ext cx="1526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38680" y="20574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ounts Stocks Produ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43200" y="152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Relationship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per Ridge Project Organization Ch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66640" y="1969920"/>
          <a:ext cx="8159760" cy="44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1969920"/>
                    <a:ext cx="8159760" cy="44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7520" y="246240"/>
          <a:ext cx="8896320" cy="64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246240"/>
                    <a:ext cx="8896320" cy="64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298440" y="12600"/>
          <a:ext cx="8697960" cy="668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12600"/>
                    <a:ext cx="8697960" cy="66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57200" y="1752480"/>
            <a:ext cx="1447920" cy="457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315200" y="1828800"/>
            <a:ext cx="1447920" cy="457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57600" y="1752480"/>
            <a:ext cx="1447920" cy="463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 Col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5120" y="20574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57400" y="182880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ters 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05520" y="20574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182880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er Selects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07732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2666880"/>
            <a:ext cx="1523880" cy="463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mulated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57600" y="3962520"/>
            <a:ext cx="1523880" cy="463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-Out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31240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95680" y="34290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er Stands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57600" y="5181480"/>
            <a:ext cx="1523880" cy="463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out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19720" y="4419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3352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igure 2.1 Product Collection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5000" y="26668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lected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5181480" y="289548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19720" y="46483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er Proceeds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1752480"/>
            <a:ext cx="1447920" cy="457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315200" y="1828800"/>
            <a:ext cx="1447920" cy="457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57600" y="1752480"/>
            <a:ext cx="1447920" cy="463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out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05120" y="20574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81080" y="182880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ts Products to Be tall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05520" y="20574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07732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57600" y="2666880"/>
            <a:ext cx="1523880" cy="463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ly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33920" y="6248520"/>
            <a:ext cx="1523880" cy="463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ce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81280" y="53352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igure 2.2 Checkout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15000" y="266688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nts Accumulated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181480" y="289548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48320" y="57913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emized Price 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4120" y="182880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roducts to Be tall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483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3505320"/>
            <a:ext cx="1523880" cy="463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483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48520" y="3962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24852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562720" y="4495680"/>
            <a:ext cx="1523880" cy="463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 Cor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0" y="3276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tal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40384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ceeds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48520" y="50292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rected 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257800" y="5334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5105520"/>
            <a:ext cx="160020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s Cust Prod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19720" y="31240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19720" y="5562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52680" y="4038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ceeds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581280" y="1295280"/>
            <a:ext cx="1447920" cy="457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228600"/>
            <a:ext cx="1447920" cy="457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Employ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" y="1295280"/>
            <a:ext cx="1447920" cy="463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ce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43400" y="1752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43000" y="7621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ts Pri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05120" y="15238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911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81280" y="2514600"/>
            <a:ext cx="1524240" cy="463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ment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81280" y="53352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igure 2.3 Price Exchange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343400" y="205740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ceeds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124080" y="3581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95680" y="312408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jects Pr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9568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129528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tal Returned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00200" y="3352680"/>
            <a:ext cx="1523880" cy="463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ce 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3352680"/>
            <a:ext cx="1523880" cy="463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ce Re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95680" y="3581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24480" y="4495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3809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162920" y="4267080"/>
            <a:ext cx="1523880" cy="463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tes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29000" y="312408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epts Pr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324480" y="396252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ceeds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81280" y="5181480"/>
            <a:ext cx="1524240" cy="463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tary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43000" y="685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362320" y="3809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62320" y="54100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38280" y="441972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er Renders Pay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04:33:49Z</dcterms:created>
  <dc:creator>Eric M. Lopez</dc:creator>
  <dc:description/>
  <dc:language>en-US</dc:language>
  <cp:lastModifiedBy>Chris</cp:lastModifiedBy>
  <cp:lastPrinted>2000-04-25T02:51:25Z</cp:lastPrinted>
  <dcterms:modified xsi:type="dcterms:W3CDTF">2001-02-02T22:30:18Z</dcterms:modified>
  <cp:revision>33</cp:revision>
  <dc:subject/>
  <dc:title>PowerPoint Presentation</dc:title>
</cp:coreProperties>
</file>